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E219-D9B3-4475-88FA-58F07AA1BD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DE94-92A5-49D2-8490-0DAC939889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245B-04D3-4F77-862A-37E6F4B33E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44C3-E702-4B7F-82CF-1262631ED4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196F-4E4A-4EF5-B7F2-1D452B2830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08DA-730C-497A-8CE4-345DD57857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C9C4-CD08-49C9-8799-9624CF1447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D395-2173-4D95-B41B-ABEFB4231C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E6D0-0BA7-4848-B09C-87C272EE71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17CB-DB6D-4E86-B711-D947A46650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7F63-1A91-48AE-BBB5-C2F4244638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6126-86C0-4D45-8BF9-5E2C455B95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FD5D-3D55-4857-93B8-1B2F17B355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10F2-EA65-46AC-A702-974B2B9F2F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C27E-4CBB-477D-B1BC-0D47B60AF5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8F33-83E9-4C90-B31E-11272C0110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6164-3AF3-4854-923D-A0195DDAF2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45FC-9A68-4B94-B958-EF59C9A9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F79-3CE9-4841-8766-9CC8C7B0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8A4D-A93C-47C6-9066-D6CA0212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BF2A-C718-4DE6-9A12-FCF464F3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B13A-633A-4624-AFA3-802402C8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9DDB-A083-4B6B-A4D8-0607C98D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C14F-5FAD-482A-B05E-B2E2D679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D1AA-215F-4E6E-BAEC-CCE08084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A1D1-E5B3-46AB-B5F1-FFBBECEF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FCAD-BC9A-445F-A7DE-0B59CB19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0CBC-3F10-4CEA-A765-B773D148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EFBC-0A9D-4987-BF40-E4B17EE8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7AFD-94A7-412B-A357-5EECAC84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DDFD-20EF-494C-9677-36CED501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FFA8-2DB2-40F9-99E5-E54B3149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828B-DB71-48CC-813D-58D1DDC8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01F7-D304-4D50-B86E-2E12CE62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D9968-933D-4692-860F-599357E3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15D62-F450-4ED9-A1CF-E1E5CF58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A52E8-9F16-41E1-9F1E-51C28375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60720-EE24-4D82-AC33-2303B1F5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0AF3A-B6E4-4A3F-AF9C-165F8FEA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7A0A-C42D-4238-B547-0D6E1136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F1F55-E455-4BB8-95B9-8B42ADC8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EDC6D-F037-461D-BD78-3EB62D7A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152E7-9524-49F5-9FC2-E70714B5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15693-68F1-46F9-A90D-CC46AABE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FB9A0-DA53-4169-9397-BDD6A9A0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0063F-6048-4180-A572-14CF7133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829B3-074B-4B16-94A5-6D1FCAE0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8941B-3BB9-4984-B720-A2772BD9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D09AE-6604-4A46-8E7C-924C2C63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0C3D2-14B2-4C88-A3EC-76920EFC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04B-E707-4ACC-B688-B9CF2EFB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2BEBB-81C9-45D9-B861-F1B792AF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E88C9-B266-4561-BAAC-86DEEE7E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37A1D-4EDE-48A9-AE1D-5401679B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21106-A099-446F-80BE-BF4A0EBC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9A8BA-0835-439D-B834-C28FC3EF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12D8E-EB4F-4D5A-92D1-10910546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1949D-5B5F-4A23-B794-7D3A90FB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0EE44-7B04-4423-AAD1-8EC38725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09CC5-9260-4360-A405-29E09436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BF732-7F1D-4D0B-AAEB-F92BBEB4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9032-104A-463E-8A62-1904F4A2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8F028-DD2B-4D01-BA17-F6444F8F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051DB-6AAE-4795-9768-7ED220FD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C543E-5E9B-43AE-BAF7-FE949027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0A130-FDF8-4025-A60B-40B20223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ACF46-2857-47F4-8DBD-BC34F4B1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97836-1C83-4646-908C-C2BB3D3D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498B9-C13A-4EAE-8200-5C382DBB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11F72-C370-437C-B0D6-CDEE1B66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1EAC8-DA2E-4BFE-B8E1-D7C68089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C3C60-5806-4E03-AB71-669CF320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1F96-6040-42FC-849E-DA3D833B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91663-0735-4C27-AF1A-3808DF71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F9878-AEBC-4694-9B90-AAB05AE1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2B00A-51C5-47BA-8196-A0233D1B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65B13-F81A-449C-B52E-CE32E82C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7DE34-A210-4A83-BA8C-AB2B000B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F9B50-C08A-4BB6-BD97-F463C18D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B6E07-86E9-4118-A7FE-05213E34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6A18A-FEDC-4E55-9900-D5046747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1FE96-2A4D-4908-A248-2844BDAB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5521A-D558-462E-8CD7-C3A09D7E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D83-F738-487F-A01C-E378BF10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1A95E-28AD-4E11-B422-9F6446ED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EA210-65A5-40DB-A975-0E6C9845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4DFEF-C8B3-45EB-A25F-5EDCB94E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34B56-58B9-48D4-BD73-4D341CBC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91E29-7C41-47CF-84B9-1D5218EA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90369-C323-45FC-A55D-14DFC34B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12BE7-C66F-4CC9-9B4D-F61B1E03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F20D1-708D-4666-8452-3935F3BE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E5A36-7F42-40FA-8A45-2CD2A062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C94C9-80FC-4025-93AF-892BCAA8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784D-556C-4D73-9B0B-4DED93BD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1B210-38DA-4970-886A-77BD40A7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75540-36B4-43BA-A608-E3D9EA19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DE7F5-C4A0-4FE2-A9B1-6CB06C3F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F5D56-FDC9-49A1-8AB3-31988763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6847D-2B00-4A53-A7CF-7677FF56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ADC-9FA1-4742-8092-0B00F34F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2B02-78F8-4234-AD5C-F5CD5D9512E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CB58-727A-4A6E-96FF-5D7AF6233C8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229E-5200-4B8D-929A-F11245FE667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7E1B-333A-4AB6-8AAF-04ABCC63750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6613-0980-4FB2-B94E-41BA4D48E2F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6E78-EF87-4590-8BE5-D5FF5DD8249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33C7-3F3F-40D4-B219-180F1D2870D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2314"/>
                </a:solidFill>
                <a:latin typeface="Tempus Sans ITC"/>
              </a:rPr>
              <a:t>Ethnography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2362320"/>
            <a:ext cx="7407000" cy="2209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Tempus Sans ITC"/>
              </a:rPr>
              <a:t>Shahaduz Zaman Ph.D.</a:t>
            </a:r>
            <a:br>
              <a:rPr sz="2800"/>
            </a:br>
            <a:r>
              <a:rPr b="1" lang="en-US" sz="2800" spc="-1" strike="noStrike">
                <a:solidFill>
                  <a:srgbClr val="572314"/>
                </a:solidFill>
                <a:latin typeface="Tempus Sans ITC"/>
              </a:rPr>
              <a:t>Newcastle University, UK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But how to learn what to watch and listen fo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How to  move the level of ordinary looking into rigor of systematic seeing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ill Sans MT"/>
              </a:rPr>
              <a:t>Paris is the the capital of France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 ……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.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eople only see what they are       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      prepared to see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n Exercis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Important for Ethnograph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Gaining an acc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aking a ro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http://image.slidesharecdn.com/ethnography1-100531004106-phpapp02/95/slide-3-728.jpg?1275285428"/>
          <p:cNvPicPr/>
          <p:nvPr/>
        </p:nvPicPr>
        <p:blipFill>
          <a:blip r:embed="rId1"/>
          <a:stretch/>
        </p:blipFill>
        <p:spPr>
          <a:xfrm>
            <a:off x="1066680" y="76320"/>
            <a:ext cx="7925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http://image.slidesharecdn.com/ethnography1-100531004106-phpapp02/95/slide-4-728.jpg?1275285428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   …………</a:t>
            </a:r>
            <a:r>
              <a:rPr b="0" lang="en-US" sz="4000" spc="-1" strike="noStrike">
                <a:solidFill>
                  <a:srgbClr val="57231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In an ethnographic research  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   the researcher is called </a:t>
            </a: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‘Participant </a:t>
            </a:r>
            <a:br>
              <a:rPr sz="3200"/>
            </a:br>
            <a:r>
              <a:rPr b="1" lang="en-US" sz="3200" spc="-1" strike="noStrike">
                <a:solidFill>
                  <a:srgbClr val="572314"/>
                </a:solidFill>
                <a:latin typeface="Times New Roman"/>
              </a:rPr>
              <a:t>    Observer’.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There are various level of   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    observation</a:t>
            </a:r>
            <a:br>
              <a:rPr sz="4000"/>
            </a:br>
            <a:br>
              <a:rPr sz="4000"/>
            </a:b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observ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particip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server as participa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ticipant as observ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omplete Observer:</a:t>
            </a:r>
            <a:r>
              <a:rPr b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watch the situation without interacting with the day to day activ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omplete Participa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participate completely in all things the people do and will not be known in the community as a researche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1720" y="1447920"/>
            <a:ext cx="7407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Ethno (People) Graphy (describing/writing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20e04"/>
                </a:solidFill>
                <a:latin typeface="Gill Sans MT"/>
              </a:rPr>
              <a:t>Writing about People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2314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Participant as Observ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be fully involved in the daily activities but will take time to record observation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Observer as Participan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you will primarily watch the situation but will also be involved in activities on a secondary basi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http://image.slidesharecdn.com/ethnography1-100531004106-phpapp02/95/slide-9-728.jpg?1275285428"/>
          <p:cNvPicPr/>
          <p:nvPr/>
        </p:nvPicPr>
        <p:blipFill>
          <a:blip r:embed="rId1"/>
          <a:stretch/>
        </p:blipFill>
        <p:spPr>
          <a:xfrm>
            <a:off x="1295280" y="304920"/>
            <a:ext cx="7391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Open Spac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hopping ma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tre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ocal baza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Close  Sp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orporate off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ligious centre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fter deciding about th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vel of particip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tes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ments a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cus of observa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er should enter the setting and start carefully watching and listen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ere is a clue to help you….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I keep six honest serving me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They taught me all I knew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Their names are What &amp; Why &amp; Whe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And How &amp; Where &amp; Who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Times New Roman"/>
              </a:rPr>
              <a:t>-R. Kipling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572314"/>
                </a:solidFill>
                <a:latin typeface="Gill Sans MT"/>
              </a:rPr>
              <a:t>Observation dimensions: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990720"/>
            <a:ext cx="7499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R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Space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: Physical layout of the pla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Object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The physical things that are pres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or: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Ranges of people involv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ingle actions people undertak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Activity: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A set of related acts that occu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Time: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ime of the day, dur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Goal :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ings that people are trying to accomplis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Calibri"/>
              </a:rPr>
              <a:t>Sequence: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Order of activities and it’s interrel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Observing self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pression manag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coming invi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fessional Stranger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13608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91404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Unlike interviews, in which  the researcher extracts data from the respondent, the ethnographer selects data from the naturally occurring flow of life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he idea that we collect data is a bit misleading. Data are not “out there” waiting for collection, like so many rubbish bags on the pavement. For a start they have to be noticed by the researcher, and treated as data for the purpose of his or her research.” Dey (1993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ages of observa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Grand tour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First wonder around the general location keeping the  focus of your study.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Mini tour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Then observ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smaller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issues (space, actor, activity, objects etc)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Selective obser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Finally observe the detail aspects of the setting according to your study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Defining ethnography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914040"/>
            <a:ext cx="7499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y is the art and science of describing a group or culture. ……..The ethnographer is interested in understanding and describing a social and cultural scene from the emic or insider’s perspective. The ethnographer is both story teller and scientist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(Fetternam:1998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nography is a method of research in which the researcher participates overtly or covertly, in people’s daily liv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tching what happe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stening to what is being sa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king questions (Hamersley &amp; Atkinson: 2006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572314"/>
                </a:solidFill>
                <a:latin typeface="Gill Sans MT"/>
              </a:rPr>
              <a:t>It is crucial to keep observation notes</a:t>
            </a:r>
            <a:endParaRPr b="0" lang="en-US" sz="3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Cryptic Jotting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Record key words and key phrases while in the fiel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Detailed descrip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Write full notes immediately after exiting the fiel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Analytical notes (Memo)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Describe your feelings, ideas, moments of confusion, and interpretations about what is observed.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Skills of participant observant: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explicit awareness of little details of lif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aintaining Naiveté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Building writing ski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mpathic Neutrality’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nter into the world. Observe and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wonder. Experience and reflect. To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understand a world you must become a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art of that world while at the same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ime remaining separate, a part of and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part from. 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Indian Sufi Saying </a:t>
            </a:r>
            <a:r>
              <a:rPr b="1" i="1" lang="en-US" sz="2400" spc="-1" strike="noStrike">
                <a:solidFill>
                  <a:srgbClr val="572314"/>
                </a:solidFill>
                <a:latin typeface="Gill Sans MT"/>
              </a:rPr>
              <a:t>	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New Styles of Ethnography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Videograph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uto ethn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Netn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Referen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tkinson P, Coffey A, Delamon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, Lofland J, Lofland L, eds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Handbook of ethnography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London: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age, 2001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Dey, Ian. 1993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Qualitative data analysis. London: Routledg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Fetterman D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Ethnography: step by step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2nd ed.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ondon: Sage, 1988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Hammersley M, Atkinson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P. 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Ethnography: principles in practice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. 2nd ed. London: Routledge,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1995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9792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685800"/>
            <a:ext cx="7499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thnography is a methodology with more than 100 years of histor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t arose in the Western world as form of knowledge about distant cultures(typically non-Western culture)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his was historically a colonial metho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Changed over time: ‘Anthropology at home’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72314"/>
                </a:solidFill>
                <a:latin typeface="Gill Sans MT"/>
              </a:rPr>
              <a:t>Malinowski in New Guinea (1916)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4" name="Content Placeholder 3" descr="Malinowski.bmp"/>
          <p:cNvPicPr/>
          <p:nvPr/>
        </p:nvPicPr>
        <p:blipFill>
          <a:blip r:embed="rId1"/>
          <a:stretch/>
        </p:blipFill>
        <p:spPr>
          <a:xfrm>
            <a:off x="1905120" y="1981080"/>
            <a:ext cx="662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6" name="Content Placeholder 3" descr="Fieldwork.bmp"/>
          <p:cNvPicPr/>
          <p:nvPr/>
        </p:nvPicPr>
        <p:blipFill>
          <a:blip r:embed="rId1"/>
          <a:stretch/>
        </p:blipFill>
        <p:spPr>
          <a:xfrm>
            <a:off x="1905120" y="1600200"/>
            <a:ext cx="6095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Ethnographic methodology gives priority to observation as it’s primary source of information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In other words, it’s a knowledge gathering process through observatio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ny professional work is dependent upon the powers of observation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hy do we need to observe in ethnography?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900"/>
            </a:br>
            <a:br>
              <a:rPr sz="2900"/>
            </a:b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Observational method provide data on what people do, as well as what they say they do.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It helps to get an inside view of everyday realit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ives chance to learn things that people are unwilling to talk in interview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7:15:32Z</dcterms:created>
  <dc:creator>Neeor</dc:creator>
  <dc:description/>
  <dc:language>en-US</dc:language>
  <cp:lastModifiedBy>Zaman</cp:lastModifiedBy>
  <dcterms:modified xsi:type="dcterms:W3CDTF">2013-12-11T21:35:34Z</dcterms:modified>
  <cp:revision>96</cp:revision>
  <dc:subject/>
  <dc:title>Ethnography  Describing people in their natural setting</dc:title>
</cp:coreProperties>
</file>